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CE1-FDD9-45E6-94F6-72EA0322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19E-CE9D-4425-99C2-309BCCBC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099-C88C-4853-8DAC-89E344B7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F59-C7A7-4EB8-86C9-A5A4740B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A27-CBE6-4DA0-99C1-6F31FC7C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33A-88E5-4166-8912-024E30CF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141-477E-415D-A846-14C9AF2D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483-1C3C-415F-9F1E-A15A7185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384-1AA3-4A35-886B-91840225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055-7AA3-497F-B0ED-B73B8802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F1D-7C45-41D8-BBBA-8003BECA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801-C5C1-48D0-A92E-DBBCF2D7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A2F1-FD9C-41C6-9D99-328EBE186F83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Comic Sans MS"/>
              </a:rPr>
              <a:t>Фармакологија и токсикологија за стоматологију – 14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ffff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Формокрезо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349280" y="1633680"/>
            <a:ext cx="5815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Формокрезо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окрезол је мешавина 19% формалдехида, 35% крезола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5% 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глицерола и остатак чини вода. Глицерол се примењује да би спречио полимеризацију формалдехида у параформалдехид, јер параформалдехид доводи до замућења раствор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окрезол делује пре свега преко формалдехида који се везује за бочне групе протеина како бактерија тако и ткива пулпе и доводи до њихове денатурације, тј. губитка функције услед поремећаја сеекундарне и терцијарне структуре. Тиме формокрезол делује бактерицидно и створи један слој коагулационе некрозе на површини пулпе у каналу, испод које додатно инхибира оксидативне ензиме и хијалуронидаз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Ово друго дејство спречава лизу пулпе, која испод некротичног слоја има један слој слабе хроничне инфламације што се стапа са нормалним ткив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Токсичност формокрезо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7320"/>
            <a:ext cx="82296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алдехид је токсична супстанца коју човек у просеку дневно преко хране, воде и ваздуха унесе око 10 милиграма. Једном пулпотомијом и третманом са формокрезолом унесе се </a:t>
            </a:r>
            <a:r>
              <a:rPr b="1" lang="sr-RS" sz="2000" spc="-1" strike="noStrike" u="sng">
                <a:solidFill>
                  <a:srgbClr val="ff0000"/>
                </a:solidFill>
                <a:uFillTx/>
                <a:latin typeface="Comic Sans MS"/>
              </a:rPr>
              <a:t>свега 0.1 милиграм 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алдехида. Формалдехид се брзо уклања из крви, тако да је његово време полу-елиминације свега 1.5 минута. Формалдехид се метаболише до мравље киселине дејством цитоплазматског ензима алкохолне дехидрогеназе, али и дејством митохондријалне алдехидне дехидрогеназе и других дехидрогеназа које су зависне и независне од глутатиона. Мравља киселина се даље метаболише до угљен диоксида и воде под дејством формил-тетрахидрофолат синтетаз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Док је показано у клиничким студијама да формалдехид из пулпе доспева до системске циркулације и других ткива, за крезол нема подата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ПАРАФОРМАЛДЕХИ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63640" y="1617840"/>
            <a:ext cx="45370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Глутаралдехи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Глутаралдехид боље фиксира пулпу од формокрезола јер изазива мању некрозу. Он има две фукционалне групе, тако да изазива унакрсно везивање протеима бактерија и нормалног ткива, што резултује готово моменталном инактивацијом. Због оваквог унакрсног везивања остаје на месту примене и минимално се апсорбује у крвоток. Примењује се као 2%-тни раствор, који је нестабилан, па се мора припремити као свеж пре приме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286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Остале методе мумиф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ери-субсулфат у концентрацији од 20% (Монселов раствор) се такође успешно користи за мумификацију пулпе. Поред коагулационог ефекта, ова супстанца има одличан хемостатски ефека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Осим помоћу лекова, коагулација тј. мумификација пулпе се може извести успешно и физичким методама, као што су електрокоагулација и коагулација ласер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999720"/>
            <a:ext cx="87152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Лекови за мумификацију су веома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токсични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, тако да посл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апсорпције изазивају локално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истемско оштећење ткива. 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то се са њима мора опрезно руковати,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римењивати најмање делотворн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количи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Лекови за избељивање зуба</a:t>
            </a:r>
            <a:r>
              <a:rPr b="0" lang="sr-CS" sz="4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Comic Sans MS"/>
              </a:rPr>
              <a:t>се користе за уклањање пигментација са глеђ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Индикације за избељивање зуб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рље од хране, дувана, кафе или чај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таро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лаго пребојење тетрациклинима или флуор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Оксидациона сред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57160" y="1996920"/>
            <a:ext cx="82868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д </a:t>
            </a: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оксидационих средстава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се највише користе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хлорни креч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 (мешавина калцијум хипохлорита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(ClO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 ) и калцијум  хидроксида –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), 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водоник пероксид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у концентрацији од 30% и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натријум пероксид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у концентрацији од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ни отклањају највећи део пигментација, јер после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ксидације супстанце из мрља губе адхезивна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својства и отпадају са глеђ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Додатна оксидациона сред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арбамид перокси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онституенс: пропилен гликол, глицерин и в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редство за згушњавање: карбопо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Propylene Glycol Chemical formula = C3H8O2"/>
          <p:cNvPicPr/>
          <p:nvPr/>
        </p:nvPicPr>
        <p:blipFill>
          <a:blip r:embed="rId1"/>
          <a:stretch/>
        </p:blipFill>
        <p:spPr>
          <a:xfrm>
            <a:off x="7218360" y="2146320"/>
            <a:ext cx="142560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Техника приме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едство се постави у термопластичну навлаку, а она затим постави на зуб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З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10% 16%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гел са карбамид пероксидом навлака се носи по 1 сат два пута дневно прве недеље, а затим једном дневно друге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а је концентрациј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20%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22%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навлака се носи 1 сат дневно током 2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а је активна супстанца водоник пероксид, држи се 15 до 30 минута, 2 до 3 пута дневно, током 2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"Кувај и загризи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авлака се загреје у врелој води, а онда да пацијенту да загри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бликује се према зуб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686800" cy="501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 неке специфичне мрље, као што су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мрље од јода, сребра ил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хипермангана, најбоље средство за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кидање је 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натријум-тиосулфат</a:t>
            </a:r>
            <a:r>
              <a:rPr b="1" lang="en-US" sz="32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N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2500200"/>
            <a:ext cx="8229600" cy="17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sr-CS" sz="3600" spc="-1" strike="noStrike">
                <a:solidFill>
                  <a:srgbClr val="ffc000"/>
                </a:solidFill>
                <a:latin typeface="Comic Sans MS"/>
              </a:rPr>
              <a:t>Разблаженим амонијаком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(N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 се могу скидати јодне мрљ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Ултраљубичасто зрачењ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785880" y="250020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Мрље од угљеника или живе се скидају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ffc000"/>
                </a:solidFill>
                <a:latin typeface="Comic Sans MS"/>
              </a:rPr>
              <a:t>ултраљубичастим зрачењем</a:t>
            </a: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Високоенергетски фотони из УВ-зрачења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кидају хемијске везе на супстанцама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које чине мрље, и чине их мање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адхезив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Плава светло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571760" y="2500200"/>
            <a:ext cx="335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етлост убрзава деј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ксидационих сред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Оловка са 36% карбамид пероксид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осетљивост на топлоту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после отклањања навлаке пацијент је преосетљив на топло и хладно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користити пасте за зубе са фином гранулацијом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Иритација гингив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Ако материјал дође у контакт са гингивом, она ће бити иритиран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не треба препуњавати навлаку са материјалом, и отклонити вишак после постављањ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Антихипертензи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Централ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Блокатори адренергичког неур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лфа и бета блока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Директни вазодилата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ЦЕ инхиби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Диуретиц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зуби могу да побеле због дехидрације, да би већ после 7 дана потамн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штећује се глеђ, постаје тањ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 препоручује се код млађих од 16 година, јер њихова пулпа још расте, па може доћи до трајне преосетљив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"ЗА" и "ПРОТИВ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6167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Принципи примене антихипертензи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Прво дијагностиковати врсту хипертензије, тј. потражити уз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Почети лечење са једним леком из групе диуретика, АЦЕ инхибитора, блокатора канала за калцијум или бета-блокат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Водити дневник крвног притиска 7 д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Ако један лек не делује довољно, додати лек из друге груп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Ако ни два лека не делују, додати трећи из групе која није коришћ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Принципи примене антихипертензи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зузетно је важна добра адхеренца пацијената, тј. стриктно придржавање прописаног дозног реж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Напоредо спроводити хигијенско-дијететске ме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Терапија је доживот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Хипертензивно хитно стањ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Крвни притисак је изузетно висок, али нема неуролошких симптома ни знак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Лечимо оралном применом каптоприла или нифедипина у ретардном обли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ко има неуролошких испада, ради се о хипертензивној кризи и пацијента треба хитно транспортовати у болн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214280"/>
            <a:ext cx="822960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46c0a"/>
                </a:solidFill>
                <a:latin typeface="Comic Sans MS"/>
              </a:rPr>
              <a:t>Мумификација</a:t>
            </a:r>
            <a:r>
              <a:rPr b="1" lang="sr-C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ffff00"/>
                </a:solidFill>
                <a:latin typeface="Comic Sans MS"/>
              </a:rPr>
              <a:t>подразумева исушивање, тј. одстрањивање воде из ткива. Када се вода одстрани, ткиво постаје отпорно на инфекцију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46c0a"/>
                </a:solidFill>
                <a:latin typeface="Comic Sans MS"/>
              </a:rPr>
              <a:t>Мумификација пулпе </a:t>
            </a: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се ради када после одстрањивања већег дела (нпр. инфициране) пулпе заостане здрав део који је под ризиком да се касније инфицира. Применом супстанци које таложе протеине од пулпе се начини сасушено и скврчено ткиво, које се тешко може инфицира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1214280"/>
            <a:ext cx="871524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 мумификацију се може користит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доста средстава, од којих с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формокрезол, танинска киселина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јодоформ (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HI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, 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араформалдехид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формалдехид, цинк оксид и цинк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улфат најчешће употребљавају. </a:t>
            </a:r>
            <a:br>
              <a:rPr sz="3200"/>
            </a:br>
            <a:br>
              <a:rPr sz="2400"/>
            </a:b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Ове супстанце се често мешају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рипремају у виду 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пасти 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ложеног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астава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Windows korisnik</cp:lastModifiedBy>
  <dcterms:modified xsi:type="dcterms:W3CDTF">2017-08-28T13:11:15Z</dcterms:modified>
  <cp:revision>259</cp:revision>
  <dc:subject/>
  <dc:title>Slide 1</dc:title>
</cp:coreProperties>
</file>